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2.png" ContentType="image/png"/>
  <Override PartName="/ppt/media/image7.png" ContentType="image/png"/>
  <Override PartName="/ppt/media/CHIMES.WAV" ContentType="audio/x-wav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831-4D28-477A-A6FB-45E61743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0D7D-FED3-4BA4-ADE9-5333D8E7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487-F7CE-4230-B6EF-E8FB87CC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1D2-EB35-4CF0-9A4B-32B04F49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C4D7-5C84-4258-9FBE-4FDD8C38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549-1031-4FAA-AA08-1731479F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F40-A437-40D4-AE88-09EE943F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5FF-B26B-4B33-9FB6-AF38952F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6C7C-320A-4720-831B-1790B21C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6026-2162-4E4B-A123-868DC386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E22-71F2-4245-808D-078074A6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EEF-DACD-4908-A1EC-B7DF059B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DDDE-1183-466E-B5B4-235BC60C1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3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3.xml"/><Relationship Id="rId23" Type="http://schemas.openxmlformats.org/officeDocument/2006/relationships/slide" Target="slide13.xml"/><Relationship Id="rId24" Type="http://schemas.openxmlformats.org/officeDocument/2006/relationships/slide" Target="slide9.xml"/><Relationship Id="rId25" Type="http://schemas.openxmlformats.org/officeDocument/2006/relationships/slide" Target="slide9.xml"/><Relationship Id="rId26" Type="http://schemas.openxmlformats.org/officeDocument/2006/relationships/slide" Target="slide17.xml"/><Relationship Id="rId27" Type="http://schemas.openxmlformats.org/officeDocument/2006/relationships/slide" Target="slide17.xml"/><Relationship Id="rId28" Type="http://schemas.openxmlformats.org/officeDocument/2006/relationships/slide" Target="slide8.xml"/><Relationship Id="rId29" Type="http://schemas.openxmlformats.org/officeDocument/2006/relationships/slide" Target="slide7.xml"/><Relationship Id="rId30" Type="http://schemas.openxmlformats.org/officeDocument/2006/relationships/slide" Target="slide6.xml"/><Relationship Id="rId31" Type="http://schemas.openxmlformats.org/officeDocument/2006/relationships/slide" Target="slide6.xml"/><Relationship Id="rId32" Type="http://schemas.openxmlformats.org/officeDocument/2006/relationships/slide" Target="slide19.xml"/><Relationship Id="rId33" Type="http://schemas.openxmlformats.org/officeDocument/2006/relationships/slide" Target="slide19.xml"/><Relationship Id="rId34" Type="http://schemas.openxmlformats.org/officeDocument/2006/relationships/slide" Target="slide20.xml"/><Relationship Id="rId35" Type="http://schemas.openxmlformats.org/officeDocument/2006/relationships/slide" Target="slide20.xml"/><Relationship Id="rId36" Type="http://schemas.openxmlformats.org/officeDocument/2006/relationships/slide" Target="slide21.xml"/><Relationship Id="rId37" Type="http://schemas.openxmlformats.org/officeDocument/2006/relationships/slide" Target="slide21.xml"/><Relationship Id="rId38" Type="http://schemas.openxmlformats.org/officeDocument/2006/relationships/slide" Target="slide22.xml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y – Chapter 7 Review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 by:  Ms. H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the midpoint between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–1, 2) and (3, –6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, –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66680" y="228600"/>
            <a:ext cx="7162920" cy="461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990720" y="1447920"/>
            <a:ext cx="7086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ase of a 12-foot ladder is six feet from the wall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high on the wall does the ladder tou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http://textbooks.cpm.org/images/ccg/checkpoints/CP7/CCG_check7an17.png"/>
          <p:cNvPicPr/>
          <p:nvPr/>
        </p:nvPicPr>
        <p:blipFill>
          <a:blip r:embed="rId1"/>
          <a:stretch/>
        </p:blipFill>
        <p:spPr>
          <a:xfrm>
            <a:off x="3251160" y="200160"/>
            <a:ext cx="19303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 in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295280" y="1676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1"/>
          <a:stretch/>
        </p:blipFill>
        <p:spPr>
          <a:xfrm>
            <a:off x="1295280" y="1562040"/>
            <a:ext cx="56390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295280" y="1676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3200400" y="1143000"/>
            <a:ext cx="4795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990720" y="1414440"/>
            <a:ext cx="70102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ot the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(–3, –1), B(1, –4), C(5, –1), &amp; D(1,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shape is ABCD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stify your answer using coordinate geome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52280" y="152280"/>
            <a:ext cx="701064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All lengths are  5 units. Therefore, s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all four sides have the same length, the figure is a rho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1" descr=""/>
          <p:cNvPicPr/>
          <p:nvPr/>
        </p:nvPicPr>
        <p:blipFill>
          <a:blip r:embed="rId1"/>
          <a:stretch/>
        </p:blipFill>
        <p:spPr>
          <a:xfrm>
            <a:off x="7058160" y="-76320"/>
            <a:ext cx="18856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area and per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the composite sha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= .5(10)(12)+ 10(18)=240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; Perimeter = 72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746360" y="2362320"/>
            <a:ext cx="5340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10666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value of x, y, and m&lt;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 36; y = 55; m&lt;D =10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962520" cy="3276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"/>
          <p:cNvSpPr/>
          <p:nvPr/>
        </p:nvSpPr>
        <p:spPr>
          <a:xfrm>
            <a:off x="4987800" y="273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x+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3324240" y="273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-3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17348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y-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420840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10666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295280" y="1676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9" descr=""/>
          <p:cNvPicPr/>
          <p:nvPr/>
        </p:nvPicPr>
        <p:blipFill>
          <a:blip r:embed="rId1"/>
          <a:stretch/>
        </p:blipFill>
        <p:spPr>
          <a:xfrm>
            <a:off x="3429000" y="1486080"/>
            <a:ext cx="4486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106668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996840" y="228600"/>
            <a:ext cx="7162920" cy="461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1143000" y="1447920"/>
            <a:ext cx="701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 4),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, 6),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, 1), and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−1, −1)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a rhombus?  Show how you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2895840" y="228960"/>
            <a:ext cx="56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each side has the same length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s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3" descr="http://textbooks.cpm.org/images/answers/gc/GC7.3.2/GC_7.3.2_7-110a_1.gif"/>
          <p:cNvPicPr/>
          <p:nvPr/>
        </p:nvPicPr>
        <p:blipFill>
          <a:blip r:embed="rId1"/>
          <a:stretch/>
        </p:blipFill>
        <p:spPr>
          <a:xfrm>
            <a:off x="5375160" y="334800"/>
            <a:ext cx="3621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0.5 in. or 49.2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371600" y="20574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field High School’s flagpole is 15 feet high. Using a clinometer, Tamara measures and angle of 11.3º to the top of the pole. Tamara is 62 inches tall. Draw &amp; label a diagram, then determine how far from the flagpole is Tamara sta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i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drilater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6426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gle Relation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752840" cy="6426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ordinate 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257480" y="14508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ea of the rectan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1"/>
          <a:stretch/>
        </p:blipFill>
        <p:spPr>
          <a:xfrm>
            <a:off x="2209680" y="1908000"/>
            <a:ext cx="511668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1295280" y="1676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4724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838080" y="1143000"/>
            <a:ext cx="777240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114300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drilateral, not a parallelogram since opposite sides are not 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879480" y="1266840"/>
            <a:ext cx="78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ot the poin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(–4, 1), B(1, 3), C(8, –1), and D(4, –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2286000" y="28288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hape is ABCD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ify your answer using coordinate geome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1" descr=""/>
          <p:cNvPicPr/>
          <p:nvPr/>
        </p:nvPicPr>
        <p:blipFill>
          <a:blip r:embed="rId1"/>
          <a:stretch/>
        </p:blipFill>
        <p:spPr>
          <a:xfrm>
            <a:off x="324000" y="2550960"/>
            <a:ext cx="2090520" cy="2430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"/>
          <p:cNvPicPr/>
          <p:nvPr/>
        </p:nvPicPr>
        <p:blipFill>
          <a:blip r:embed="rId2"/>
          <a:stretch/>
        </p:blipFill>
        <p:spPr>
          <a:xfrm>
            <a:off x="6783480" y="3009960"/>
            <a:ext cx="197316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lve for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219320" y="228600"/>
            <a:ext cx="7086600" cy="461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2666880" y="2362320"/>
            <a:ext cx="4724640" cy="2262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3589200" y="2142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.7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º, 12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9" descr=""/>
          <p:cNvPicPr/>
          <p:nvPr/>
        </p:nvPicPr>
        <p:blipFill>
          <a:blip r:embed="rId2"/>
          <a:stretch/>
        </p:blipFill>
        <p:spPr>
          <a:xfrm>
            <a:off x="2095560" y="1600200"/>
            <a:ext cx="4952880" cy="28782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1066680" y="955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∠CDA = 60º, find m∠CBA and m∠B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295280" y="1676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up an equations and solve for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2819520" y="2286000"/>
            <a:ext cx="403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990720" y="1147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295280" y="1676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1143000" y="1346040"/>
            <a:ext cx="6858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length of the hypotenuse of the right triangle with coordinates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−2, −1), (−6, 5), and (4,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2"/>
          <a:stretch/>
        </p:blipFill>
        <p:spPr>
          <a:xfrm>
            <a:off x="3335400" y="228600"/>
            <a:ext cx="17114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6"/>
          <p:cNvSpPr/>
          <p:nvPr/>
        </p:nvSpPr>
        <p:spPr>
          <a:xfrm>
            <a:off x="95076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23;  y = 32 deg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2"/>
          <a:stretch/>
        </p:blipFill>
        <p:spPr>
          <a:xfrm>
            <a:off x="3203640" y="2362320"/>
            <a:ext cx="3273480" cy="217332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1219320" y="18288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value of x and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5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295280" y="167652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∠XWZ = 95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∠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4038480" y="1670040"/>
            <a:ext cx="38102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38080" y="228600"/>
            <a:ext cx="7239240" cy="461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295280" y="1676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x &amp;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2"/>
          <a:stretch/>
        </p:blipFill>
        <p:spPr>
          <a:xfrm>
            <a:off x="3714840" y="1538280"/>
            <a:ext cx="3500280" cy="2581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3"/>
          <a:stretch/>
        </p:blipFill>
        <p:spPr>
          <a:xfrm>
            <a:off x="3086280" y="44280"/>
            <a:ext cx="22096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Sara Hunt</cp:lastModifiedBy>
  <cp:lastPrinted>2001-01-31T16:21:13Z</cp:lastPrinted>
  <dcterms:modified xsi:type="dcterms:W3CDTF">2014-04-30T14:30:33Z</dcterms:modified>
  <cp:revision>111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